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589-BB20-44C8-861A-6E2CF965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C1C-6420-4432-8CC9-11893BF2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A3A-C814-42CF-B445-F0FDE305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433-84AE-4106-A49D-2FC7C77F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A2F-3E5F-4413-AE6F-C576BE68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356-EF36-40D0-8FA1-6746B3D1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0A0-8420-470A-A475-9E21975F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042-6B55-4538-B140-D891EB8E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023-A711-4773-B639-B4930CFC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266-854B-41DB-8495-A190DD5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CD1-FDE6-4DB0-A398-8861509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E07-483A-4FE3-8216-29C4F4D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C6F8-0564-4E22-A27E-7993C9705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_____ Clase 6 NH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26 de septiembre del 2011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CAC Futura Casual"/>
              </a:rPr>
              <a:t>Propósito # 5: 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¿Qué es la silaba y la palabra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CAC Futura Casual"/>
              </a:rPr>
              <a:t>Actividad Inicial: </a:t>
            </a:r>
            <a:r>
              <a:rPr b="1" lang="es-ES_tradnl" sz="3200" spc="-1" strike="noStrike">
                <a:solidFill>
                  <a:srgbClr val="3333cc"/>
                </a:solidFill>
                <a:latin typeface="CAC Futura Casual"/>
              </a:rPr>
              <a:t>A) </a:t>
            </a:r>
            <a:r>
              <a:rPr b="1" lang="es-ES" sz="3200" spc="-1" strike="noStrike">
                <a:solidFill>
                  <a:srgbClr val="ffffff"/>
                </a:solidFill>
                <a:latin typeface="CAC Futura Casual"/>
              </a:rPr>
              <a:t>Copia y responde en oraciones completas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C Futura Casual"/>
              </a:rPr>
              <a:t>¿Qué son los fonema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C Futura Casual"/>
              </a:rPr>
              <a:t>¿Cuántos fonemas hay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C Futura Casual"/>
              </a:rPr>
              <a:t>¿Cómo se dividen los fonema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C Futura Casual"/>
              </a:rPr>
              <a:t>¿Cuáles son las vocales cerrada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C Futura Casual"/>
              </a:rPr>
              <a:t>¿Cuáles son las vocales abierta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AC Futura Casual"/>
              </a:rPr>
              <a:t>B) 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Encierra las vocales cerradas y subraya las vocales abierta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1) N o c h e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2) A r l e q u í n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3) I n d e p e n d e n c i a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4) C a l e n d a r i o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5) M u ñ e q u i t o s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6) C a b a l l o s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8) P a y a s o s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C Futura Casual"/>
              </a:rPr>
              <a:t>9) T í t e r e s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66"/>
                </a:solidFill>
                <a:latin typeface="CAC Futura Casual"/>
              </a:rPr>
              <a:t>Las silaba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La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silabas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son una o más letras que se pronuncian en un golpe de voz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CAC Futura Casual"/>
              </a:rPr>
              <a:t>Ejemplos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Uña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       Familia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Refrigerador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Feliz 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6576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657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365760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365760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11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C Futura Casual"/>
              </a:rPr>
              <a:t>U-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441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C Futura Casual"/>
              </a:rPr>
              <a:t>Fa-mi-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47386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C Futura Casual"/>
              </a:rPr>
              <a:t>Re-fri-ge-ra-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5181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C Futura Casual"/>
              </a:rPr>
              <a:t>Fe-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C Futura Casual"/>
              </a:rPr>
              <a:t>Las palabra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  <a:tab algn="l" pos="25002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La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palabras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están formadas por una o más sílaba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220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  <a:tab algn="l" pos="25002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CAC Futura Casual"/>
              </a:rPr>
              <a:t>Practica</a:t>
            </a:r>
            <a:r>
              <a:rPr b="0" lang="es-ES_tradnl" sz="3200" spc="-1" strike="noStrike">
                <a:solidFill>
                  <a:srgbClr val="ff0066"/>
                </a:solidFill>
                <a:latin typeface="CAC Futura Casual"/>
              </a:rPr>
              <a:t>: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Divide las palabras en silaba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220680" indent="-220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  <a:tab algn="l" pos="25002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Paz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C Futura Casual"/>
              </a:rPr>
              <a:t>6.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geografía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220680" indent="-220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  <a:tab algn="l" pos="25002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Amor 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AC Futura Casual"/>
              </a:rPr>
              <a:t>7.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consideración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220680" indent="-220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  <a:tab algn="l" pos="25002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Respeto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AC Futura Casual"/>
              </a:rPr>
              <a:t>8.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Tos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220680" indent="-220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  <a:tab algn="l" pos="25002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Responsable 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AC Futura Casual"/>
              </a:rPr>
              <a:t>9.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Mina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220680" indent="-220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  <a:tab algn="l" pos="25002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Caricaturas</a:t>
            </a:r>
            <a:r>
              <a:rPr b="1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AC Futura Casual"/>
              </a:rPr>
              <a:t>10.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Cuaderno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C Futura Casual"/>
              </a:rPr>
              <a:t>Tarea # 5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ompleta la hoja distribuida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2:11:58Z</dcterms:created>
  <dc:creator>Helen Zumaeta</dc:creator>
  <dc:description/>
  <dc:language>en-US</dc:language>
  <cp:lastModifiedBy>Helen Zumaeta</cp:lastModifiedBy>
  <dcterms:modified xsi:type="dcterms:W3CDTF">2011-09-26T16:38:19Z</dcterms:modified>
  <cp:revision>7</cp:revision>
  <dc:subject/>
  <dc:title>Me llamo _______________ Clase 6 NH La fecha es el 26 de septiembre del 2011</dc:title>
</cp:coreProperties>
</file>